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0D0-BA39-4F2D-A939-34E230F0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E32-7BF7-44D0-B697-87CA6A7F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C364F-D2BE-4C4F-B19E-E2A06E37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27D49-053E-492D-B656-3D0B7873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1CED9-9E5C-4658-9220-4FE35966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74DD9-6982-4D24-9343-F4AD7E9D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2DB41-8FD3-43AE-9AB1-FD2E0492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190D9-C954-4D9C-93ED-A7B989EC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42433-DAD2-49BE-96EE-06DC2030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D9FB2-B916-4B8A-9FB7-7D35A3A6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3365F-B321-4AA5-A600-D61D1F89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66255-A8EB-41E1-9D8B-2D8EAE1E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945-E919-4583-8F51-9DA0B419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337AF-42D7-4385-BEEB-4776EF6E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4B6B6-489F-4C7F-965B-EE02B43F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3E8B9-D370-4DB4-BF89-6EF71139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69660-9B5C-46CC-B9AD-D6C37E63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3ECF0-CE63-4A67-813E-939F4DCF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8026C-756F-469A-BF2D-38F71C87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51FAF-0560-4474-97D9-E61A3FDC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4C5BD-265B-42C0-97DE-EE2A2B3D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EE5A4-4BD6-4BCF-96E5-400AA603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C0B1D-257D-446E-8DE5-894F4239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8A3-A48A-4036-9758-DA3358CF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D6796-A400-48C0-B271-97AECDDB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C6364-2BED-4BE0-8014-9B06CF1F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BEC79-BA6B-4FF6-BD0F-1AFF2D16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00C84-7DFE-4A1C-B49D-4AB4AC30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D1EDC-18A8-469D-9356-EE751654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6E614-9197-490C-98D1-CC9B401B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F5D96-93FC-432C-8ADF-2595F154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BCE32-D7D4-418E-8051-11AF0FDF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2D32A-A692-4619-98A4-6AD3FE0B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B5483-70D6-4859-839C-D07CA9EA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31FF-DF64-4512-BAF5-F372A0C4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5C8FB-AA3F-4F64-BD1C-206AEFBE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0CCA6-E83C-4766-B1EA-D5BCE804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3F70D-28F7-4CA6-9F05-E9807008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F619F-05BE-4BCA-9CEC-B06BA21C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D7EF6-47D5-4CEE-977D-23008F82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3F021-FB5B-490E-9058-155CDB23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174EA-C961-4D3D-8CBE-9BA9D242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DB65C-E628-4C59-AE77-A931B7AF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4DB29-CA04-4DBE-AC78-04ECC23E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3DCBA-388F-418E-A454-78A4172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198E-5B16-484C-9B24-49E9C1FA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B9F8D-03E3-4EA8-ADEF-C519B627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6AE60-0633-4DD1-87F7-631526B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24CE1-3AE2-4C67-A59F-A38852AD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A97BB-5FCA-4FEE-A771-81F24DF0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F6D1E-E8EE-413B-A62B-E84CCBC4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12DE3-1168-48F4-911F-D5BEC08A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2683A-4317-4D02-9FA2-D330B540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7C506-16D0-43A8-B8E7-D41466D2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35572-A57A-43D4-B597-29A20856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A6CE3-AC2A-4424-824F-18F9B22C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7296-44DC-4A81-AD7F-597E7207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9204E-4AA6-46DD-A330-9F571865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2A355-82C5-4A68-88E6-5DD5BCC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02612-60BC-4BAD-A937-3245F1DA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9C2C1-D0A0-4858-A34E-0A21DFCC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45365-4D96-4605-87AE-7033DD78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BC251-E692-44B0-BC4D-CEB8D48D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2E010-0E6D-4CF0-B91A-9FC2BA18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B6D26-6C57-4A6C-8400-C23162E0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F54F8B-1A13-472F-B7C7-23E66BE6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80EA7-E7A6-4DBD-9A64-F9D51FDB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C624-2B7A-40D3-AC2F-C35FFF9F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2BC76-7C25-4A2A-93F7-01356157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FFCF5-6701-44AC-8AB7-F0A4CF09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970B0-AF25-419B-AE32-9EA32E34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C0ACE-1D7E-4403-B88C-06AAAEE9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0C37E-B3D8-4086-9378-21E6E1A7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35C5E-19B7-4EAA-A1C2-B343F388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5BEB0-7C7B-4EF2-A910-E97BA10A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003C0-4D33-440E-A6BA-97E7C3EF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B4862-70C5-4F3F-BA0C-E78C6BC7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DBA71-3A5E-48C8-B651-7D405F02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E2B1-7CEF-408D-9AA3-D9749F57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48F99-36F1-4072-A891-8B241A82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FC376-9AD5-4A4E-99D9-7CB029B3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A1DE5-CD62-4578-B402-225A3A28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CF398-40E5-4668-8BEB-35CA8A2D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554D3-F638-4E17-A778-05D97F59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E8596-FEF5-4B3C-AA4C-580533FA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C8C66-CB7D-4798-AEE4-672DE60C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6A1818-BD7C-4BBD-A002-0241259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E35E4-5DA4-4176-9BA6-AAA04277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A1589-DB6D-4F4F-BC76-AF36FAC7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0808-8B26-48E2-927D-CBF6BEB0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FB088-B99B-4E0A-AA1C-0B9EA129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F63AA-0AE7-4BE3-BC61-9F496224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D89B9-3053-4597-ADFE-28B4E86F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57B3D-EEE8-40D1-AF0A-69E956D3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5FDAB-36CA-48F5-B6F7-BD15919B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E3018-5A6E-4B77-A15A-79261664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7B4B2-9206-4B34-AF05-9445DC67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5B7F9-751A-4DB0-92C8-2FD58D16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2D1FD8-3CEA-47D7-AB3B-D59A54A6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A7705-C5DF-4D0B-8D94-EC2908E9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8401-FECE-4C38-9222-EEF8BE38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F060E-643C-41EF-85B4-CC532CBE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8466F-FD48-4C3F-AE46-67FCDC8F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C92B6-3119-4ABD-88FA-0EA88958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5FDE1-4D90-4F15-B9BC-9083816D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5FF6E-D955-4616-899A-A6743366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D1F5B-9739-4BA9-8C22-13FE1EEE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EEB66-6362-40C8-A22C-48AB6F33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9FD8E-75F1-4797-BDFD-63B3890C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3E4D5C-99AF-45EC-81B6-9C395E9E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5DB7BA-EBBB-469C-8749-212D150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DC6-FBA5-4091-8486-12F8567B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ADCB-71F2-4B00-9E3D-B6CB9C76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26BEC0-E273-4597-9BE8-34EAA383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B57C76-747E-4B04-89F4-4AABEAC0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5682A-322F-4D26-A1D0-F40D9CAD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70FB0-39BE-4208-B96C-39D10CD9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2ADA27-4DC8-4826-B17E-29E81246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65DF5A-287E-46C1-B80C-6B80C713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B6799-0F8D-4258-9135-3B81E18A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55D49-5872-43AD-A0DA-83FD6853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CA35E1-4C54-4E79-AEDA-49236D6F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55A2C-87B7-4BB9-B021-9F081C09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0BC0-447A-4514-B7D3-E812D711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69391-693A-43C9-ADCB-7BA7130D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B158AE-470C-4FAE-BEA1-51E9C867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9D19A-D9FD-4A06-A792-221BE27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FE46ED-4B53-4CB9-BA7A-CB5C58AB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8A27D5-C80E-40E3-83FE-696556FE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3B3AE1-D280-471D-86C1-7F8B8D18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479198-F259-4532-8907-724A421F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2D192-0EA8-48A1-A855-EE5D5CFE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E6B43-5662-4A6B-986C-C64E0904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A3B14-57DD-4DB2-8190-69928DED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7FE9-6FEF-4E8E-B2D4-7A8D3D07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F6477D-7FCD-400B-BD95-04D85AB0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168C68-4A3A-4788-9B2B-4A4BF1A5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028265-F75D-4C1D-985C-8DE1AB36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6997C2-5DA1-45AE-864F-10A76499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B3926-F875-4A21-8970-8464AE6D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6DB1B7-E2DD-4ED8-B579-3E8301D7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6F1CA-1D63-4A35-B3E7-96C69861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30FBA-144D-48B2-9297-04025043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86DEFC-1E0C-4A35-8A2D-88F932C9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663DEA-4A03-4F35-9230-5D7A70FE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1A6D-8404-4ECD-8F45-2F93A5A4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9B7A8A-2265-4CB6-A380-9A0F8BB1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56F9E-C4FA-4BE8-851D-2982413A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AAF5AB-1786-4C34-AEB3-6B0EB191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10B70-67D2-49A7-A1ED-9E6A74B2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473C7-FBBD-428C-99F1-D7221FD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6259B-0E1F-4CCA-8587-B3601DE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9B5DCC-EF4A-4FED-B8C0-504C6FF4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F96AC-49D0-4AC0-932E-3A999F16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AB7580-D2F7-45BA-A784-B67A6B2F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A0A109-F251-4103-92B5-9DEC2118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06A0-3F60-4771-B6E2-29E020EE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715C2-8669-48E4-8D0A-078C1A64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3ED77D-C3E8-432B-A1F3-E5197C72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32C15B-7B4D-4194-B6B2-F5A6FB04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904CF-3434-44F5-B80F-CF00EF4F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A01DFB-AB21-40D0-B56A-2E79F062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AE5696-04F0-4B1F-A7F4-4A1D41E2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E0DD84-27C0-41B8-88F5-6494DE19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336B38-92E2-457D-A987-D3F8D4E4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99A6F7-4EAD-49A0-9D33-D07B9F87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B215B7-4443-4C42-8C7A-1C9ABDAB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D365B-14A9-4D67-8A83-44084E0A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B1405B-4F48-4580-9CEF-FF7DB4E1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B5D2F0-2084-4A62-9985-0EA0D2C9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E3F663-4F59-4DAB-B7FC-A1B69630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74054-4256-4E17-98A7-47E6A635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B8FE-5915-473B-AA0A-5726EEAE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8689-B36D-4513-808B-B95FA685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B7F7-81F9-419D-B292-5B588412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418-C474-49CB-ABD3-5991BD89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315D-63F9-42C6-8F26-8B9DC778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2407-2014-4E1F-952C-F3784DF6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25F1-7254-4E2E-8001-0C107E58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21F9-D0E9-439A-99FC-CCCCDAB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83AA-0304-4246-B7C5-F7E54412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A790-B24D-4C42-8EBB-7EB43542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D6FE-F7AA-47D5-B7C7-F0772ADC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80803-BE35-4692-BEC1-78F8B119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307C5-2041-4337-A609-46AED7F6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FE03A-F23A-40AA-B750-D5E14A98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CEE-E379-448B-B204-7D0DAA18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B25E7-548F-44AE-AA37-8A2FC872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7B1E9-E0D2-4C4E-844A-2AE81934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06DAA-3505-4692-BEB7-C08CF5D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5B1FC-214E-43B8-AD17-F1638F25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5F119-B162-4CA7-B45A-D74F584A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E41AE-894A-46BE-A2F1-43E81303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2F10-1727-4F5E-B510-845D1FDE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F2080-5118-483A-A7A2-4F5317A8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4294B-FB20-4165-B4CD-A668B877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6B675-00FF-4462-B027-5356D8FB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DFB-BA23-4598-9C13-041F98A4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54893-4BDD-48D0-88D6-89E9BA4A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8D178-B143-4864-BFB6-0E57834D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3E2CF-23C0-4C2A-A4D6-9887F2D1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7AB09-F667-4C0E-95F3-5A71275E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7913A-7C64-48BE-BC6C-57B51609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6EE7C-8086-4976-AC49-ACF1BEE1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2BAD-31C1-4DD5-8C03-4274E02F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6E1D3-8B1F-4795-B150-7DAE29FF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11CE0-48AA-4F08-B25E-38C8D383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E848B-19BD-467D-AA0A-006D79C7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7C5-FBB0-4A37-AED7-4EAE1CDA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C24CE-7067-4C32-93FD-91E149F7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48C18-43E0-4FFC-AE10-30E94B4B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CD7F4-2CA4-4366-A843-44941D45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ED864-F4ED-47DB-91AF-358091AD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654BA-D072-47E1-968A-D67A7CA6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76A2F-C928-43F2-8018-295D8B3F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12905-FD8A-4B83-8AF0-73B2A59D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85DE8-DA15-4E39-880D-96078183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5D41-3F96-42C5-BC37-E0F8E32B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36AAB-0816-49ED-9F0D-D7519A10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D5A-4C81-4BCE-AEF7-D79713FB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110F-E73F-401B-AFF8-AD2014A7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869FE-7706-4A22-A837-FEC436AB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EA5AE-5654-4DC0-A6E4-92087B94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E95FC-C78B-4D8C-A29E-B9B4E90C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55C1E-0BC8-4D70-B986-D2EAC0F5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6B1E6-B687-420B-A94D-CA44EEA1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7A96A-C1C1-466D-A2A6-28002937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0248E-5088-4314-9D4D-6F7E7CCA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A38CC-F887-467E-9680-32C0F552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710F-668C-4D40-8F07-F1B2836E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C6F-6B78-4A29-BC9B-8D9863F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5EA20-41BA-437E-9ED2-443B4934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301F8-DF82-4CAA-81B7-18C5F8B0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A43DA-5EC2-41CB-BDED-FB6205A2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F1935-7DFE-413E-A590-A1BAB1AF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58D91-ABE5-4E30-BE16-7368BE87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DCAE9-5835-4155-8F9F-3A414CCF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9036B-FCD4-4D43-BFF6-E56B246E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2539F-D543-464E-B3ED-D29A4582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13C22-27CD-4B72-9828-1131183E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94CA3-F612-4481-9752-DA5DAC83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3BF-372F-45E0-AD73-99F2A446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AC483-9094-45B8-AA6A-95B8CA6B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5EE0F-AEF8-42C4-A71F-F92EF193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BB64A-0C46-4375-A6A4-B5C0015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76AC7-899D-4B15-897B-E8E9E109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A6D4D-C8A9-4122-8780-3D29B92C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E4F2E-282F-469E-A5AA-F9ED2654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79DEC-90BD-42FD-A166-DBB35298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561C2-3991-4359-8EC2-0C08C528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62B89-4EC5-4E2E-BFBA-67C70F41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5A04E-BDFC-47C3-8D22-53AE925D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4927-9A17-42D6-A068-CA2DEAE4D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0A86-E9F0-41BC-A8F7-C1848E1EC0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79A9-CA85-4982-A6F4-3510611A0B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57B1-32EC-48FF-9781-A973954A5D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5B0F-9D2F-44BE-8107-1F4F2A345E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CF76-B579-4D90-B8AA-76457EDD1E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3426-965D-4C4F-92C5-D758A96A61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FA64-CA1D-401A-9C0E-950E3E2A55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D90C-3E5E-4804-A0E8-D3040D34D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C0C1-9179-4638-82AF-CD417215AF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7913-2905-4A20-B9DC-1FE98653E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1138-1FF7-4BDD-9AEC-F845C56CE0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F537-C25A-4C6D-8B5D-5DFD6B5F8B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ED6E-5227-4DFC-A453-A04C52C22B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CC67-4181-4C73-AC49-CC2D5F7866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C318-5F99-4562-B167-37EE0CE1AF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4556-43F5-4FF9-A062-0C8F77F86F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5871-BA41-4955-BC0F-1B5369A0E5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7ADC-91A0-4147-847E-8CDDD06C8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82CD-C286-4F22-9B50-6378FDEF83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C795-77ED-4C86-BD29-13F608F672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21A1-9C03-49EF-8119-17DA725B3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C4F4-EBC4-44A1-88A8-F6FD3B515B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BB59-B87E-4744-89B6-A1E7CEBFE0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6090-8B30-464F-8FC8-2834C639E6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DE37-E81B-456E-AD18-4C29C1344E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0794-8E54-4C6E-8E1D-B7415F2DD7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E41F-5958-40BC-95B5-A5867653C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346D-1457-4C27-A3B2-F5805F0747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C294-7D80-493E-BFFC-7EAB9311A1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71FF-3C97-4CFC-8F59-49F1CF1CDA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3D8D-F80F-4C5B-BE78-8DF0E44E08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B527-19D7-4FA6-835E-8EEB298549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6128-3119-4E8F-B52E-14157279FA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209C-BD44-4029-95D6-1FA4CCF649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C6FE-6947-4722-89D6-B3CFBF658E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0B7F-252B-431D-9960-46CC9EF74F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477D-E44E-439E-8A67-3B2F440125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D486-E325-4B8A-927B-DDF42184C0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0312-D53C-429F-8A8C-012D405709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914400" y="2719440"/>
            <a:ext cx="73152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461880" y="1752480"/>
            <a:ext cx="8218440" cy="3353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32080" y="2637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47636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476360" y="3789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476360" y="43657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318960" y="870120"/>
            <a:ext cx="8504280" cy="57434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258920" y="16002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332000" y="32986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258920" y="50562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409680" y="1647720"/>
            <a:ext cx="8324640" cy="35625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403280" y="4076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403280" y="234936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403280" y="465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1403280" y="2924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1403280" y="3500280"/>
            <a:ext cx="43200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147600" y="1743120"/>
            <a:ext cx="8847000" cy="3371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475272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273320" y="4610160"/>
            <a:ext cx="4752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6:58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